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79E93-BB82-4727-842D-B1FF3B34C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E15CC-CD93-4A1B-B9B5-6EB4B5C48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014-5037-47F2-B095-3ADE0F1F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A0E-4ED6-4485-87B3-E9399F77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A60-692B-4AF5-9744-2A01306D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542-1335-4D43-B86A-04F2CD43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14D0-A00A-4EDB-AEC7-FFD21B77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EEC-2A01-4BAB-958F-45842E37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6BC0-48A3-49F4-B826-004CA4B9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5701-305E-4205-A53B-00BCB8E0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A2EF-694F-4CF2-93D8-3AD1BAD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2E0-0D03-494B-B861-BDB0F325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39B-84A4-4DAB-B515-9870088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401-421E-4895-94D3-762DF322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006D-63C3-4E5B-A3A8-DB81A806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79D1-12EC-4EDF-886E-5824594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7657-A708-443F-A014-4A77224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E2D2-F971-4E48-BFB3-0EA564F9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82AC-243C-41DE-A01C-01FFF49A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7159-39C8-40EF-98C4-2D129DB5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B8AB-A377-400E-9B40-3FED82A8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79E5-C9D9-4ED1-BD44-8DA6F4B5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607A-0255-45E5-BBA5-61B74842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ED89-C35E-4C8A-9AC4-82DD9A8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241-5391-4CA1-A2EC-80382D70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F1BD-72BD-44FC-ACF6-A17A9997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417B3-D94F-4B3E-9FC1-3D75152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5EF4-682B-4809-9563-2D0A1B2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AA1A-857E-4CE7-90D5-A4180D7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2D58-8A75-44B9-BC83-3180F181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99D6-0678-4380-AEAE-E2D76B39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DAE6-C6FC-4FB0-B947-204ACB6A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8C18-3C23-4D4A-A333-6D661B9B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8E28-1CC2-4357-9A18-70A0FD85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C4F4-4962-4D25-B282-BA2792E5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941-AB56-44DD-AED5-E769DA5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ACF1-3D67-4163-B778-5F95426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2D5D-9DC8-4671-8F4D-4B45C460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BE12-568C-4AD4-9943-B60130E4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DAA6-0DE0-445C-90E0-50D3A53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E259-A7A1-48C2-91AA-A6C94A9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A1D4-0A4B-4EE1-B403-A1E3589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3ED8-962D-4F67-ACB4-251DD41D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F9BA-062A-4D99-BDD7-4E9E9421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5B21-6AF3-465C-8CFE-0780E68F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4789-9318-4792-899E-8EB915AD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3B4-8E5B-4C21-A158-0F951A6A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06B18-0F92-4CE8-88CE-B3B87BAF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658D-BED4-44EA-8CA4-C4136D7B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631A-1490-4345-AB11-10F7DEB0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4A2B-540B-4BCE-B802-D36856AF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97E4-5726-49C9-9EB5-2619F588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F806-6B24-4DEB-AF90-1F8679F5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7932-8CAB-4725-BFBD-9E09DE6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0629-07CF-4593-81FE-C5B0891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1A81A-E628-472D-9436-2C4E93AB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49BE-4E6E-40C2-8BA2-25C0953A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532-F47F-4D6C-9339-8CB900A0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86AB-9B46-4A65-9111-3FD9EC22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5F1C-A7D5-48DD-B932-0C382AD5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E6A8E-CE62-4188-ADCD-096BB908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85BB3-FF5C-4F48-A0A7-B7FFA847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C539-EE86-4B87-8FA3-4C5160C0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70DA-2920-48CB-B31F-06CB0C70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53193-BF5B-472B-AFDF-CD11975D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B76D9-E315-476D-93FF-A93E683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94E9C-7BC5-4482-9CCF-146BD24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3922D-F015-4A02-A64A-7B97F775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FCC-89D6-4F51-A0E3-369FD13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76DB-0A8C-467F-B926-89EBB541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AF98-F005-4EAB-B27F-D10CD2F6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B7C96-BE5B-4B3A-A962-9C7D1D2B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36D43-1130-48E6-976D-43010790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F849D-DF6F-4B22-B5F0-6CC9785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C5A3-7EC8-4058-95C1-D292F243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9B72-0C9E-4E3F-9017-22DA4D0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BE1F-97E4-42C5-BE6C-C05F02B6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55E3-BC46-4F66-8280-3FBF6A3E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D0C8A-045B-4714-9C74-9C36F97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180-6368-4167-9F89-B7BE39C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E728-2E2F-40BB-9A17-E2939E6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CE87-A306-45A4-BD3A-AADFE1A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BC3E-640F-4A3F-9D42-0339873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07B2-E372-4333-8310-3D629DCA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7D46E-3453-46E3-8FF9-DE5D7700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BC7-B25D-4092-A64A-AE0431E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DC32B-0A68-4EBE-B236-ED13D4B0107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DFA95-5208-4EDF-ACCC-DCB9496AD4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54A94-42E1-4785-A09D-5D3C22A17C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A724C-16CC-41E4-9350-537507A1B5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67DB3-833A-4250-842B-CDBE914C747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6E939-7275-4B9F-9D5E-AE837C13A4E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2C52F-B4CE-4C41-BD51-68E618BF57A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72520" y="1507680"/>
            <a:ext cx="8077320" cy="14986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genda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preme Court Case Revie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ing Quiz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rnell Notes / PowerPoint: Territorial Expans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PUSH Practice Ques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it Slip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3" descr="Texas_20Logo.jpg"/>
          <p:cNvPicPr/>
          <p:nvPr/>
        </p:nvPicPr>
        <p:blipFill>
          <a:blip r:embed="rId2"/>
          <a:srcRect l="-16713" t="0" r="-16713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5000"/>
          </a:bodyPr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o won independence from Spain in 182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o hoped to attract settlers to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phen Austin brought 300 families into Texas which started a migration into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 1830, Americans [white farmers &amp; black slaves] outnumbered Mexicans in Texas 3/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3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**Mexico outlawed slavery in 1829 and required all immigrants convert to Roman Catholicism—led to tension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33" name="Content Placeholder 3" descr="austin.jpg"/>
          <p:cNvPicPr/>
          <p:nvPr/>
        </p:nvPicPr>
        <p:blipFill>
          <a:blip r:embed="rId2"/>
          <a:srcRect l="-83684" t="0" r="-83684" b="0"/>
          <a:stretch/>
        </p:blipFill>
        <p:spPr>
          <a:xfrm>
            <a:off x="655560" y="1954080"/>
            <a:ext cx="8229600" cy="4416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austin1.jpg"/>
          <p:cNvPicPr/>
          <p:nvPr/>
        </p:nvPicPr>
        <p:blipFill>
          <a:blip r:embed="rId3"/>
          <a:stretch/>
        </p:blipFill>
        <p:spPr>
          <a:xfrm>
            <a:off x="6286680" y="1954080"/>
            <a:ext cx="2857320" cy="2476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Stephen_F_Austin_and_Brother_s.jpg"/>
          <p:cNvPicPr/>
          <p:nvPr/>
        </p:nvPicPr>
        <p:blipFill>
          <a:blip r:embed="rId4"/>
          <a:stretch/>
        </p:blipFill>
        <p:spPr>
          <a:xfrm>
            <a:off x="0" y="26161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834, General Santa Anna made himself dictator of Mexico and abolished the federal system of gover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nta Anna enforced Mexican law in Texas, and settlers led by Sam Houston revolted and declared Texas to be an independent republic (March 1836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an Army led by Santa Anna attacked the Alamo in San Antonio killing all American defend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39" name="Content Placeholder 3" descr="samhouston.jpg"/>
          <p:cNvPicPr/>
          <p:nvPr/>
        </p:nvPicPr>
        <p:blipFill>
          <a:blip r:embed="rId2"/>
          <a:srcRect l="-12979" t="0" r="-12979" b="0"/>
          <a:stretch/>
        </p:blipFill>
        <p:spPr>
          <a:xfrm>
            <a:off x="-582480" y="2232000"/>
            <a:ext cx="5662440" cy="462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lamo.jpg"/>
          <p:cNvPicPr/>
          <p:nvPr/>
        </p:nvPicPr>
        <p:blipFill>
          <a:blip r:embed="rId3"/>
          <a:stretch/>
        </p:blipFill>
        <p:spPr>
          <a:xfrm>
            <a:off x="4156200" y="1407960"/>
            <a:ext cx="49719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42" name="Content Placeholder 3" descr="alatrav.jpg"/>
          <p:cNvPicPr/>
          <p:nvPr/>
        </p:nvPicPr>
        <p:blipFill>
          <a:blip r:embed="rId2"/>
          <a:srcRect l="-20414" t="0" r="-20414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6840" y="1774800"/>
            <a:ext cx="84661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my under Sam Houston caught the Mexicans by surprise and captured Santa An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an leader [under threat of death] signed treaty recognizing Texas’ independence and granted all territory north of Rio Grande to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46" name="Content Placeholder 3" descr="smallriogranderiver.jpg"/>
          <p:cNvPicPr/>
          <p:nvPr/>
        </p:nvPicPr>
        <p:blipFill>
          <a:blip r:embed="rId2"/>
          <a:srcRect l="0" t="12489" r="0" b="12489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xican legislature rejected treaty and insisted that Texas was still part of Mexic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m Houston mad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president of Texas; applied for annexation to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ex = add on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th Jackson &amp; Van Buren put off the request b/c of political opposition among northerners to the expansion of slavery and potential of  territories made into 5 new slave sta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-360" y="1434600"/>
            <a:ext cx="3429000" cy="526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esident from 1841-184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uthern Whi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orried about growing influence of the British in Texa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anted to annex Texas, but in 1844 US Senate rejected his treaty of annex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3" descr="10jt_header_sm.jpg"/>
          <p:cNvPicPr/>
          <p:nvPr/>
        </p:nvPicPr>
        <p:blipFill>
          <a:blip r:embed="rId2"/>
          <a:stretch/>
        </p:blipFill>
        <p:spPr>
          <a:xfrm>
            <a:off x="3429000" y="3632040"/>
            <a:ext cx="57150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407960" y="517680"/>
            <a:ext cx="8236080" cy="1261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Judicial Review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Separate but Equal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Cannot execute under 18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) Internment camps ARE legal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) Abortion legalized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6) You have the right to remain silent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7) School Integration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8) State cannot tax a federal entit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9) Dartmouth College can stay priv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0) Interracial marriage legalized &amp;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3" name="Content Placeholder 3" descr="james-polk-white-house-china-1.gif"/>
          <p:cNvPicPr/>
          <p:nvPr/>
        </p:nvPicPr>
        <p:blipFill>
          <a:blip r:embed="rId2"/>
          <a:srcRect l="-64436" t="0" r="-64436" b="0"/>
          <a:stretch/>
        </p:blipFill>
        <p:spPr>
          <a:xfrm>
            <a:off x="-2247840" y="1627200"/>
            <a:ext cx="8048520" cy="46242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965400" y="1990800"/>
            <a:ext cx="4891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ke Andrew Jacks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itted to Manifest Destiny and Expan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nted to annex Tex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lected as a dark horse candidat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6" name="Content Placeholder 3" descr="e1844_ecmap.gif"/>
          <p:cNvPicPr/>
          <p:nvPr/>
        </p:nvPicPr>
        <p:blipFill>
          <a:blip r:embed="rId2"/>
          <a:srcRect l="-6510" t="0" r="-6510" b="0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564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ctory signaled to Tyler to push annexation through Con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cceeded by getting both houses of Congress to pass a joint resolution for annex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passed Senate – had advantage of requiring only a simple majority of each hou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left Polk the problem of Mexico’s re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828800" y="16761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ght to bear arm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llegal search and seizur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ue Process &amp; Double Jeopard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eedom from cruel and unusual punishmen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olished slaver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qual rights &amp; citizens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males could vot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io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emales suffrag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hibition Repeale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80720" y="1774800"/>
            <a:ext cx="850572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William Lloyd Garrison and the American Antislavery supported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) gradual emancipation of slaves without compensation to own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) immediate emancipation of slaves without compensation or emig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) gradual emancipation of slaves with emigration to Asi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) immediate emancipation of slaves with compensation to own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) violent overthrow of slavery in the South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1774800"/>
            <a:ext cx="90216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9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2. Dorothea Dix was inspired to dedicate her life to a humanitarian crusade b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istreatment of women factory work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ditions in the poorly funded public schoo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scovery of the confinement of the mentally ill in local j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ack of schools for the blind and dea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98280"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increased suicide rate in Pennsylvania and New York pri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040" y="1544760"/>
            <a:ext cx="85374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107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3.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Uncle Tom’s Cabin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, written by Harriet Beecher Stowe in the antebellum era, had the effect of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plicating the passage of the Missouri Compromis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omoting slavery in the anti-slave northern stat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flaming public opinion of slavery in both the North and South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eading to the skirmish known as “Bleeding Kansa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omoting slave rebellions in the South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1407960"/>
            <a:ext cx="8994600" cy="5321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104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4. Manifest Destiny in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century America included all of the following characteristic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except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racial justification for expans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belief that Providence (God) wanted America to expand across North Americ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usage of the “penny press” to spread the ideas of Manifest Destin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strong belief that further expansion would end the debate over slav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beginnings of imperialistic ideas as some politicans advocated eventually spreading American influence all over the worl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04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-360" y="1774800"/>
            <a:ext cx="8923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Belief that God intended America to expand west to the Pacific Oce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rase coined by John L. O’Sulliv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way, away with all these cobweb tissues of the rights of discovery, exploration settlement, . . . [The American claim] is by the right of our manifest destiny to overspread and to possess the whole of the continent which Providence has given us for the development of the great experiment of liberty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 National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opulation increa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Rapid economic develop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) Technological adva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) Reform ide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***Northerners protested: argued the South just wanted to further expand slave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2:48:49Z</dcterms:created>
  <dc:creator>Mark Scacewater</dc:creator>
  <dc:description/>
  <dc:language>en-US</dc:language>
  <cp:lastModifiedBy>Mark Scacewater</cp:lastModifiedBy>
  <dcterms:modified xsi:type="dcterms:W3CDTF">2012-01-15T21:29:54Z</dcterms:modified>
  <cp:revision>10</cp:revision>
  <dc:subject/>
  <dc:title>APUSH  November 11, 2011 Topic: Territorial Expansion </dc:title>
</cp:coreProperties>
</file>